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F023-1AE8-4B7D-8475-4F6B3558EF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FE40-E631-404C-BAFD-023024CE11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E46F-3DFD-44F2-A5E4-A2C2530196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DCC7-086F-4AC3-876F-F14B97CC46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6C2C-916D-4EFB-9018-452CC7898B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2F85-26CE-4254-B18A-750DE768AC9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4C1-1564-4E69-A526-C0287B7B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CB6-513C-4B77-B29D-0E7D9270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A9E-AB66-40BB-8328-6FB9E2AC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E5E-CFD8-47C6-9DA5-2C135186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673-458F-400D-BC76-316A72DC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377-63A0-4D29-A00A-40071E16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D6B-6A1F-4AB0-9EC9-93197B7F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ED3-B652-4697-B52C-F1917CD8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852-B3DC-424A-89C3-47CF72AA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CC4-0C66-4069-A2DD-378012A8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4EE-51CB-4AA9-A6AD-CF23C079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863-87B3-4FF3-A3D5-B565646B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52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0a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565000"/>
            <a:ext cx="777528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4147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880" indent="829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960" indent="124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844720" y="6308640"/>
            <a:ext cx="525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W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Stoen SA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fld id="{36454C4F-177E-4A72-B994-E74D2AF12B1E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59640" y="630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STRON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213429DB-FAAB-49B0-854D-19D24F8F708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25D9-0D9A-4688-85D0-F6C97C691D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2844720" y="6308640"/>
            <a:ext cx="525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8459640" y="630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STRON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27581C39-B9E7-4D0C-94B0-41CA832F42A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844720" y="6308640"/>
            <a:ext cx="525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W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Stoen S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fld id="{F5A86979-ABDA-43C3-BA8F-634C77C259F6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8459640" y="630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STRON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8746963-C07D-4C00-81A0-37AE3F65CEA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52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0a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4360" y="2565000"/>
            <a:ext cx="777528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4147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880" indent="829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960" indent="124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477720" y="692280"/>
            <a:ext cx="775512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odel of Compet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xample RWE Polsk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ational Research Conference –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06.201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– Dortm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. Werner Wetekamp – CFO RWE Polska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084720" y="6165720"/>
            <a:ext cx="2232360" cy="57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Logos_PPT_RWE"/>
          <p:cNvPicPr/>
          <p:nvPr/>
        </p:nvPicPr>
        <p:blipFill>
          <a:blip r:embed="rId1"/>
          <a:srcRect l="19367" t="0" r="0" b="0"/>
          <a:stretch/>
        </p:blipFill>
        <p:spPr>
          <a:xfrm>
            <a:off x="0" y="4700520"/>
            <a:ext cx="31924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ADING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e Personal Responsi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ole model of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haviou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values expected by the organ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s personal integrity in day to d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haviou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es with consistency living up to commitments and establishes tr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ethical considerations, challenging inappropriate practices o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riti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role models health and safety in the workpl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w Passion &amp; dr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s even in the face of obstac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personal resilience and remains positive when faced with setba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s a high energy level and drive towards the accomplishment of tas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ys optimism and enthusiasm towards the business and its go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 &amp; gr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strong personal insight into own strengths, development priorities and motiv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s out and acts on feedback from 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gni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essentials and has the ability to handle complex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ssimilates new information and applies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es new situations with curiosity and open-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challenges and risks to create opportunities to lea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7564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d on the MoC 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tranet-based proces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6084720" y="6165720"/>
            <a:ext cx="2232360" cy="57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5280" y="1484280"/>
            <a:ext cx="7993080" cy="39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valuation of each Manager according to the MoC by his peers, bosses, subordinates (360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d on this we give a recommendation for the future development (horizontal, vertical, n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results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discussed (and if needed adjusted) in a panel discussion in the responsible bo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d on the evaluation together with concrete business targets we set targets for the new year and evaluate the target achievement of the previous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this is communicated to the Manger in a feedback session by the superior -  there is also a link t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lary (increases, incentives,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development plan will be agreed between superior, man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r and 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0920" y="334800"/>
            <a:ext cx="777564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from my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6084720" y="5807160"/>
            <a:ext cx="2232360" cy="57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95280" y="3933720"/>
            <a:ext cx="3097080" cy="1944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95280" y="1125360"/>
            <a:ext cx="799308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749"/>
              </a:spcAft>
              <a:buClr>
                <a:srgbClr val="333399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Master is needed on higher pos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urther development of a diploma holder is based to a greater ex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soft skills than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xper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guages are a m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dership is not a subject of the studies, but on higher level it accounts for 80% of th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ies should focus on teambuilding “as well” as on leadership, entrepreneurial competences, target orientation, willingness for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ears ago I thought the result of my work depends on me – now I understand that my team is the key to success – don't do your work as a manager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n your ow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t create a wonderful team and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R-Boss of a RWE Company: “Observe fresh people from university with the same marks in their Master/Bachelor for the next 10 years and you will see: development depends almost only on soft skill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059280" y="4005360"/>
            <a:ext cx="2881080" cy="5032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cc00">
                  <a:alpha val="66274"/>
                </a:srgbClr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6360" y="33336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084720" y="6165720"/>
            <a:ext cx="2232360" cy="57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4292640"/>
            <a:ext cx="3097080" cy="1944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79680" y="1341360"/>
            <a:ext cx="4400640" cy="61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RWE Group in fisca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WE companies in Pola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WE Polska in fisca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WE Model of compe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eadin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eading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eading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eading 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ed Processes to 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s from my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7564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RWE Group in fiscal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84360" y="1341360"/>
            <a:ext cx="817236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genera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lion in reven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emplo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 70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0 employe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produ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billion cubic metres of ga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genera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25,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lion kilowatt-hours of electri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sel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11,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lion kilowatt-hours of electricity a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95,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lion kilowatt-hours of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suppl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 16 million electricity and about 8 million g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ust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out 260,000 shar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084720" y="6165720"/>
            <a:ext cx="2232360" cy="57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5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50920" y="4292640"/>
            <a:ext cx="3744720" cy="201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23640" y="404280"/>
            <a:ext cx="496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WE companies in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26960" y="1341360"/>
            <a:ext cx="3929040" cy="2906640"/>
          </a:xfrm>
          <a:prstGeom prst="rect">
            <a:avLst/>
          </a:prstGeom>
          <a:solidFill>
            <a:srgbClr val="0c419a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11280" y="1557360"/>
            <a:ext cx="314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928800" cy="861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944640" cy="8542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47" name="Picture 9" descr=""/>
          <p:cNvPicPr/>
          <p:nvPr/>
        </p:nvPicPr>
        <p:blipFill>
          <a:blip r:embed="rId3"/>
          <a:srcRect l="9110" t="0" r="0" b="0"/>
          <a:stretch/>
        </p:blipFill>
        <p:spPr>
          <a:xfrm>
            <a:off x="1979640" y="3141720"/>
            <a:ext cx="952560" cy="871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8" name="Rectangle 10"/>
          <p:cNvSpPr/>
          <p:nvPr/>
        </p:nvSpPr>
        <p:spPr>
          <a:xfrm>
            <a:off x="3081240" y="2583000"/>
            <a:ext cx="2430720" cy="15523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galeria_09_m"/>
          <p:cNvPicPr/>
          <p:nvPr/>
        </p:nvPicPr>
        <p:blipFill>
          <a:blip r:embed="rId4"/>
          <a:stretch/>
        </p:blipFill>
        <p:spPr>
          <a:xfrm>
            <a:off x="3182760" y="3152880"/>
            <a:ext cx="932040" cy="85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Text Box 12"/>
          <p:cNvSpPr/>
          <p:nvPr/>
        </p:nvSpPr>
        <p:spPr>
          <a:xfrm>
            <a:off x="3056040" y="2652840"/>
            <a:ext cx="2259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362480" y="4197240"/>
            <a:ext cx="3225600" cy="10350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170320" y="4573440"/>
            <a:ext cx="22575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ratio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s / 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5" descr=""/>
          <p:cNvPicPr/>
          <p:nvPr/>
        </p:nvPicPr>
        <p:blipFill>
          <a:blip r:embed="rId5"/>
          <a:stretch/>
        </p:blipFill>
        <p:spPr>
          <a:xfrm>
            <a:off x="4459320" y="4286160"/>
            <a:ext cx="942840" cy="876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4" name="Rectangle 16"/>
          <p:cNvSpPr/>
          <p:nvPr/>
        </p:nvSpPr>
        <p:spPr>
          <a:xfrm rot="16200000">
            <a:off x="5439240" y="4239360"/>
            <a:ext cx="1084320" cy="32130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6"/>
          <a:srcRect l="0" t="6874" r="0" b="15851"/>
          <a:stretch/>
        </p:blipFill>
        <p:spPr>
          <a:xfrm>
            <a:off x="4489560" y="5396040"/>
            <a:ext cx="931680" cy="88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18"/>
          <p:cNvSpPr/>
          <p:nvPr/>
        </p:nvSpPr>
        <p:spPr>
          <a:xfrm>
            <a:off x="5219640" y="5734080"/>
            <a:ext cx="22575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ter /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ste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4362480" y="3119400"/>
            <a:ext cx="3225600" cy="1035000"/>
          </a:xfrm>
          <a:prstGeom prst="rect">
            <a:avLst/>
          </a:prstGeom>
          <a:solidFill>
            <a:srgbClr val="b2b2b2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5170320" y="3495600"/>
            <a:ext cx="22575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1" descr=""/>
          <p:cNvPicPr/>
          <p:nvPr/>
        </p:nvPicPr>
        <p:blipFill>
          <a:blip r:embed="rId7"/>
          <a:stretch/>
        </p:blipFill>
        <p:spPr>
          <a:xfrm>
            <a:off x="4456080" y="3178080"/>
            <a:ext cx="941400" cy="86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0" name="Oval 22"/>
          <p:cNvSpPr/>
          <p:nvPr/>
        </p:nvSpPr>
        <p:spPr>
          <a:xfrm>
            <a:off x="1116000" y="2708280"/>
            <a:ext cx="341280" cy="3063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1187280" y="2708280"/>
            <a:ext cx="31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4"/>
          <p:cNvSpPr/>
          <p:nvPr/>
        </p:nvSpPr>
        <p:spPr>
          <a:xfrm>
            <a:off x="468360" y="3789360"/>
            <a:ext cx="341280" cy="3063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539640" y="3789360"/>
            <a:ext cx="3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6"/>
          <p:cNvSpPr/>
          <p:nvPr/>
        </p:nvSpPr>
        <p:spPr>
          <a:xfrm>
            <a:off x="1763640" y="3789360"/>
            <a:ext cx="343080" cy="306360"/>
          </a:xfrm>
          <a:prstGeom prst="ellipse">
            <a:avLst/>
          </a:prstGeom>
          <a:solidFill>
            <a:srgbClr val="7ea7d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7"/>
          <p:cNvSpPr/>
          <p:nvPr/>
        </p:nvSpPr>
        <p:spPr>
          <a:xfrm>
            <a:off x="1835280" y="3789360"/>
            <a:ext cx="32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8"/>
          <p:cNvSpPr/>
          <p:nvPr/>
        </p:nvSpPr>
        <p:spPr>
          <a:xfrm>
            <a:off x="3017880" y="3821040"/>
            <a:ext cx="339840" cy="306360"/>
          </a:xfrm>
          <a:prstGeom prst="ellipse">
            <a:avLst/>
          </a:prstGeom>
          <a:solidFill>
            <a:srgbClr val="7ea7d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9"/>
          <p:cNvSpPr/>
          <p:nvPr/>
        </p:nvSpPr>
        <p:spPr>
          <a:xfrm>
            <a:off x="3106800" y="384012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0"/>
          <p:cNvSpPr/>
          <p:nvPr/>
        </p:nvSpPr>
        <p:spPr>
          <a:xfrm>
            <a:off x="4316400" y="3873600"/>
            <a:ext cx="341280" cy="3063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406760" y="389088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2"/>
          <p:cNvSpPr/>
          <p:nvPr/>
        </p:nvSpPr>
        <p:spPr>
          <a:xfrm>
            <a:off x="4276800" y="4976640"/>
            <a:ext cx="341280" cy="306720"/>
          </a:xfrm>
          <a:prstGeom prst="ellipse">
            <a:avLst/>
          </a:prstGeom>
          <a:solidFill>
            <a:srgbClr val="7ea7d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4365720" y="499572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4"/>
          <p:cNvSpPr/>
          <p:nvPr/>
        </p:nvSpPr>
        <p:spPr>
          <a:xfrm>
            <a:off x="4303800" y="6076800"/>
            <a:ext cx="339480" cy="306360"/>
          </a:xfrm>
          <a:prstGeom prst="ellipse">
            <a:avLst/>
          </a:prstGeom>
          <a:solidFill>
            <a:srgbClr val="7ea7d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4394160" y="6095880"/>
            <a:ext cx="31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6" descr=""/>
          <p:cNvPicPr/>
          <p:nvPr/>
        </p:nvPicPr>
        <p:blipFill>
          <a:blip r:embed="rId8"/>
          <a:stretch/>
        </p:blipFill>
        <p:spPr>
          <a:xfrm>
            <a:off x="584280" y="4292640"/>
            <a:ext cx="3052800" cy="208764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37"/>
          <p:cNvSpPr/>
          <p:nvPr/>
        </p:nvSpPr>
        <p:spPr>
          <a:xfrm rot="150000">
            <a:off x="5148000" y="691920"/>
            <a:ext cx="2703240" cy="2170080"/>
          </a:xfrm>
          <a:custGeom>
            <a:avLst/>
            <a:gdLst/>
            <a:ahLst/>
            <a:rect l="l" t="t" r="r" b="b"/>
            <a:pathLst>
              <a:path w="1585" h="1475">
                <a:moveTo>
                  <a:pt x="4" y="302"/>
                </a:moveTo>
                <a:lnTo>
                  <a:pt x="32" y="315"/>
                </a:lnTo>
                <a:lnTo>
                  <a:pt x="50" y="325"/>
                </a:lnTo>
                <a:lnTo>
                  <a:pt x="58" y="308"/>
                </a:lnTo>
                <a:lnTo>
                  <a:pt x="58" y="286"/>
                </a:lnTo>
                <a:lnTo>
                  <a:pt x="36" y="275"/>
                </a:lnTo>
                <a:lnTo>
                  <a:pt x="23" y="273"/>
                </a:lnTo>
                <a:lnTo>
                  <a:pt x="45" y="256"/>
                </a:lnTo>
                <a:lnTo>
                  <a:pt x="70" y="246"/>
                </a:lnTo>
                <a:lnTo>
                  <a:pt x="76" y="256"/>
                </a:lnTo>
                <a:lnTo>
                  <a:pt x="106" y="221"/>
                </a:lnTo>
                <a:lnTo>
                  <a:pt x="142" y="200"/>
                </a:lnTo>
                <a:lnTo>
                  <a:pt x="192" y="191"/>
                </a:lnTo>
                <a:lnTo>
                  <a:pt x="277" y="162"/>
                </a:lnTo>
                <a:lnTo>
                  <a:pt x="307" y="137"/>
                </a:lnTo>
                <a:lnTo>
                  <a:pt x="336" y="106"/>
                </a:lnTo>
                <a:lnTo>
                  <a:pt x="362" y="82"/>
                </a:lnTo>
                <a:lnTo>
                  <a:pt x="400" y="67"/>
                </a:lnTo>
                <a:lnTo>
                  <a:pt x="432" y="47"/>
                </a:lnTo>
                <a:lnTo>
                  <a:pt x="460" y="32"/>
                </a:lnTo>
                <a:lnTo>
                  <a:pt x="501" y="22"/>
                </a:lnTo>
                <a:lnTo>
                  <a:pt x="538" y="10"/>
                </a:lnTo>
                <a:lnTo>
                  <a:pt x="574" y="1"/>
                </a:lnTo>
                <a:lnTo>
                  <a:pt x="611" y="0"/>
                </a:lnTo>
                <a:lnTo>
                  <a:pt x="641" y="9"/>
                </a:lnTo>
                <a:lnTo>
                  <a:pt x="663" y="18"/>
                </a:lnTo>
                <a:lnTo>
                  <a:pt x="684" y="39"/>
                </a:lnTo>
                <a:lnTo>
                  <a:pt x="682" y="58"/>
                </a:lnTo>
                <a:lnTo>
                  <a:pt x="662" y="47"/>
                </a:lnTo>
                <a:lnTo>
                  <a:pt x="646" y="35"/>
                </a:lnTo>
                <a:lnTo>
                  <a:pt x="632" y="28"/>
                </a:lnTo>
                <a:lnTo>
                  <a:pt x="636" y="47"/>
                </a:lnTo>
                <a:lnTo>
                  <a:pt x="650" y="82"/>
                </a:lnTo>
                <a:lnTo>
                  <a:pt x="665" y="113"/>
                </a:lnTo>
                <a:lnTo>
                  <a:pt x="675" y="137"/>
                </a:lnTo>
                <a:lnTo>
                  <a:pt x="692" y="145"/>
                </a:lnTo>
                <a:lnTo>
                  <a:pt x="696" y="134"/>
                </a:lnTo>
                <a:lnTo>
                  <a:pt x="706" y="123"/>
                </a:lnTo>
                <a:lnTo>
                  <a:pt x="744" y="120"/>
                </a:lnTo>
                <a:lnTo>
                  <a:pt x="781" y="108"/>
                </a:lnTo>
                <a:lnTo>
                  <a:pt x="807" y="91"/>
                </a:lnTo>
                <a:lnTo>
                  <a:pt x="843" y="104"/>
                </a:lnTo>
                <a:lnTo>
                  <a:pt x="889" y="106"/>
                </a:lnTo>
                <a:lnTo>
                  <a:pt x="928" y="113"/>
                </a:lnTo>
                <a:lnTo>
                  <a:pt x="966" y="116"/>
                </a:lnTo>
                <a:lnTo>
                  <a:pt x="1017" y="120"/>
                </a:lnTo>
                <a:lnTo>
                  <a:pt x="1066" y="116"/>
                </a:lnTo>
                <a:lnTo>
                  <a:pt x="1106" y="113"/>
                </a:lnTo>
                <a:lnTo>
                  <a:pt x="1146" y="105"/>
                </a:lnTo>
                <a:lnTo>
                  <a:pt x="1218" y="79"/>
                </a:lnTo>
                <a:lnTo>
                  <a:pt x="1279" y="64"/>
                </a:lnTo>
                <a:lnTo>
                  <a:pt x="1320" y="82"/>
                </a:lnTo>
                <a:lnTo>
                  <a:pt x="1373" y="111"/>
                </a:lnTo>
                <a:lnTo>
                  <a:pt x="1390" y="143"/>
                </a:lnTo>
                <a:lnTo>
                  <a:pt x="1400" y="192"/>
                </a:lnTo>
                <a:lnTo>
                  <a:pt x="1427" y="270"/>
                </a:lnTo>
                <a:lnTo>
                  <a:pt x="1474" y="390"/>
                </a:lnTo>
                <a:lnTo>
                  <a:pt x="1480" y="435"/>
                </a:lnTo>
                <a:lnTo>
                  <a:pt x="1483" y="486"/>
                </a:lnTo>
                <a:lnTo>
                  <a:pt x="1458" y="538"/>
                </a:lnTo>
                <a:lnTo>
                  <a:pt x="1417" y="568"/>
                </a:lnTo>
                <a:lnTo>
                  <a:pt x="1393" y="608"/>
                </a:lnTo>
                <a:lnTo>
                  <a:pt x="1412" y="639"/>
                </a:lnTo>
                <a:lnTo>
                  <a:pt x="1459" y="672"/>
                </a:lnTo>
                <a:lnTo>
                  <a:pt x="1461" y="712"/>
                </a:lnTo>
                <a:lnTo>
                  <a:pt x="1461" y="756"/>
                </a:lnTo>
                <a:lnTo>
                  <a:pt x="1462" y="794"/>
                </a:lnTo>
                <a:lnTo>
                  <a:pt x="1483" y="831"/>
                </a:lnTo>
                <a:lnTo>
                  <a:pt x="1493" y="868"/>
                </a:lnTo>
                <a:lnTo>
                  <a:pt x="1512" y="905"/>
                </a:lnTo>
                <a:lnTo>
                  <a:pt x="1520" y="920"/>
                </a:lnTo>
                <a:lnTo>
                  <a:pt x="1527" y="930"/>
                </a:lnTo>
                <a:lnTo>
                  <a:pt x="1560" y="961"/>
                </a:lnTo>
                <a:lnTo>
                  <a:pt x="1560" y="996"/>
                </a:lnTo>
                <a:lnTo>
                  <a:pt x="1585" y="1041"/>
                </a:lnTo>
                <a:lnTo>
                  <a:pt x="1575" y="1084"/>
                </a:lnTo>
                <a:lnTo>
                  <a:pt x="1528" y="1137"/>
                </a:lnTo>
                <a:lnTo>
                  <a:pt x="1475" y="1185"/>
                </a:lnTo>
                <a:lnTo>
                  <a:pt x="1437" y="1249"/>
                </a:lnTo>
                <a:lnTo>
                  <a:pt x="1398" y="1374"/>
                </a:lnTo>
                <a:lnTo>
                  <a:pt x="1398" y="1421"/>
                </a:lnTo>
                <a:lnTo>
                  <a:pt x="1409" y="1460"/>
                </a:lnTo>
                <a:lnTo>
                  <a:pt x="1378" y="1470"/>
                </a:lnTo>
                <a:lnTo>
                  <a:pt x="1364" y="1466"/>
                </a:lnTo>
                <a:lnTo>
                  <a:pt x="1334" y="1461"/>
                </a:lnTo>
                <a:lnTo>
                  <a:pt x="1296" y="1438"/>
                </a:lnTo>
                <a:lnTo>
                  <a:pt x="1271" y="1412"/>
                </a:lnTo>
                <a:lnTo>
                  <a:pt x="1237" y="1396"/>
                </a:lnTo>
                <a:lnTo>
                  <a:pt x="1195" y="1396"/>
                </a:lnTo>
                <a:lnTo>
                  <a:pt x="1160" y="1405"/>
                </a:lnTo>
                <a:lnTo>
                  <a:pt x="1130" y="1421"/>
                </a:lnTo>
                <a:lnTo>
                  <a:pt x="1110" y="1441"/>
                </a:lnTo>
                <a:lnTo>
                  <a:pt x="1077" y="1421"/>
                </a:lnTo>
                <a:lnTo>
                  <a:pt x="1019" y="1424"/>
                </a:lnTo>
                <a:lnTo>
                  <a:pt x="994" y="1458"/>
                </a:lnTo>
                <a:lnTo>
                  <a:pt x="966" y="1475"/>
                </a:lnTo>
                <a:lnTo>
                  <a:pt x="942" y="1470"/>
                </a:lnTo>
                <a:lnTo>
                  <a:pt x="920" y="1440"/>
                </a:lnTo>
                <a:lnTo>
                  <a:pt x="889" y="1411"/>
                </a:lnTo>
                <a:lnTo>
                  <a:pt x="862" y="1394"/>
                </a:lnTo>
                <a:lnTo>
                  <a:pt x="832" y="1411"/>
                </a:lnTo>
                <a:lnTo>
                  <a:pt x="800" y="1421"/>
                </a:lnTo>
                <a:lnTo>
                  <a:pt x="752" y="1399"/>
                </a:lnTo>
                <a:lnTo>
                  <a:pt x="707" y="1382"/>
                </a:lnTo>
                <a:lnTo>
                  <a:pt x="670" y="1333"/>
                </a:lnTo>
                <a:lnTo>
                  <a:pt x="646" y="1296"/>
                </a:lnTo>
                <a:lnTo>
                  <a:pt x="619" y="1283"/>
                </a:lnTo>
                <a:lnTo>
                  <a:pt x="604" y="1290"/>
                </a:lnTo>
                <a:lnTo>
                  <a:pt x="576" y="1267"/>
                </a:lnTo>
                <a:lnTo>
                  <a:pt x="574" y="1244"/>
                </a:lnTo>
                <a:lnTo>
                  <a:pt x="574" y="1218"/>
                </a:lnTo>
                <a:lnTo>
                  <a:pt x="551" y="1214"/>
                </a:lnTo>
                <a:lnTo>
                  <a:pt x="514" y="1214"/>
                </a:lnTo>
                <a:lnTo>
                  <a:pt x="489" y="1203"/>
                </a:lnTo>
                <a:lnTo>
                  <a:pt x="462" y="1194"/>
                </a:lnTo>
                <a:lnTo>
                  <a:pt x="442" y="1189"/>
                </a:lnTo>
                <a:lnTo>
                  <a:pt x="438" y="1207"/>
                </a:lnTo>
                <a:lnTo>
                  <a:pt x="448" y="1226"/>
                </a:lnTo>
                <a:lnTo>
                  <a:pt x="414" y="1250"/>
                </a:lnTo>
                <a:lnTo>
                  <a:pt x="393" y="1242"/>
                </a:lnTo>
                <a:lnTo>
                  <a:pt x="364" y="1212"/>
                </a:lnTo>
                <a:lnTo>
                  <a:pt x="335" y="1186"/>
                </a:lnTo>
                <a:lnTo>
                  <a:pt x="342" y="1173"/>
                </a:lnTo>
                <a:lnTo>
                  <a:pt x="348" y="1153"/>
                </a:lnTo>
                <a:lnTo>
                  <a:pt x="348" y="1143"/>
                </a:lnTo>
                <a:lnTo>
                  <a:pt x="344" y="1137"/>
                </a:lnTo>
                <a:lnTo>
                  <a:pt x="311" y="1133"/>
                </a:lnTo>
                <a:lnTo>
                  <a:pt x="284" y="1096"/>
                </a:lnTo>
                <a:lnTo>
                  <a:pt x="252" y="1091"/>
                </a:lnTo>
                <a:lnTo>
                  <a:pt x="220" y="1084"/>
                </a:lnTo>
                <a:lnTo>
                  <a:pt x="199" y="1085"/>
                </a:lnTo>
                <a:lnTo>
                  <a:pt x="182" y="1057"/>
                </a:lnTo>
                <a:lnTo>
                  <a:pt x="153" y="1041"/>
                </a:lnTo>
                <a:lnTo>
                  <a:pt x="134" y="1059"/>
                </a:lnTo>
                <a:lnTo>
                  <a:pt x="111" y="1087"/>
                </a:lnTo>
                <a:lnTo>
                  <a:pt x="92" y="1076"/>
                </a:lnTo>
                <a:lnTo>
                  <a:pt x="92" y="1070"/>
                </a:lnTo>
                <a:lnTo>
                  <a:pt x="94" y="1068"/>
                </a:lnTo>
                <a:lnTo>
                  <a:pt x="102" y="1050"/>
                </a:lnTo>
                <a:lnTo>
                  <a:pt x="112" y="996"/>
                </a:lnTo>
                <a:lnTo>
                  <a:pt x="116" y="934"/>
                </a:lnTo>
                <a:lnTo>
                  <a:pt x="112" y="920"/>
                </a:lnTo>
                <a:lnTo>
                  <a:pt x="104" y="912"/>
                </a:lnTo>
                <a:lnTo>
                  <a:pt x="87" y="888"/>
                </a:lnTo>
                <a:lnTo>
                  <a:pt x="68" y="863"/>
                </a:lnTo>
                <a:lnTo>
                  <a:pt x="62" y="821"/>
                </a:lnTo>
                <a:lnTo>
                  <a:pt x="61" y="790"/>
                </a:lnTo>
                <a:lnTo>
                  <a:pt x="62" y="761"/>
                </a:lnTo>
                <a:lnTo>
                  <a:pt x="58" y="712"/>
                </a:lnTo>
                <a:lnTo>
                  <a:pt x="50" y="683"/>
                </a:lnTo>
                <a:lnTo>
                  <a:pt x="48" y="648"/>
                </a:lnTo>
                <a:lnTo>
                  <a:pt x="45" y="611"/>
                </a:lnTo>
                <a:lnTo>
                  <a:pt x="40" y="587"/>
                </a:lnTo>
                <a:lnTo>
                  <a:pt x="18" y="566"/>
                </a:lnTo>
                <a:lnTo>
                  <a:pt x="0" y="555"/>
                </a:lnTo>
                <a:lnTo>
                  <a:pt x="0" y="533"/>
                </a:lnTo>
                <a:lnTo>
                  <a:pt x="12" y="495"/>
                </a:lnTo>
                <a:lnTo>
                  <a:pt x="29" y="460"/>
                </a:lnTo>
                <a:lnTo>
                  <a:pt x="32" y="426"/>
                </a:lnTo>
                <a:lnTo>
                  <a:pt x="32" y="377"/>
                </a:lnTo>
                <a:lnTo>
                  <a:pt x="23" y="356"/>
                </a:lnTo>
                <a:lnTo>
                  <a:pt x="12" y="329"/>
                </a:lnTo>
                <a:lnTo>
                  <a:pt x="4" y="302"/>
                </a:lnTo>
                <a:close/>
              </a:path>
            </a:pathLst>
          </a:custGeom>
          <a:solidFill>
            <a:srgbClr val="ffffff">
              <a:alpha val="15000"/>
            </a:srgbClr>
          </a:solidFill>
          <a:ln w="3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6719760" y="158760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Warszaw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5937120" y="2374920"/>
            <a:ext cx="45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ędz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0"/>
          <p:cNvSpPr/>
          <p:nvPr/>
        </p:nvSpPr>
        <p:spPr>
          <a:xfrm>
            <a:off x="6746760" y="2233440"/>
            <a:ext cx="806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ąbrowa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órnic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1"/>
          <p:cNvSpPr/>
          <p:nvPr/>
        </p:nvSpPr>
        <p:spPr>
          <a:xfrm>
            <a:off x="5240160" y="1989000"/>
            <a:ext cx="64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rocł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2"/>
          <p:cNvSpPr/>
          <p:nvPr/>
        </p:nvSpPr>
        <p:spPr>
          <a:xfrm>
            <a:off x="6777000" y="1467000"/>
            <a:ext cx="21600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3"/>
          <p:cNvSpPr/>
          <p:nvPr/>
        </p:nvSpPr>
        <p:spPr>
          <a:xfrm>
            <a:off x="6843600" y="1479600"/>
            <a:ext cx="19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4"/>
          <p:cNvSpPr/>
          <p:nvPr/>
        </p:nvSpPr>
        <p:spPr>
          <a:xfrm>
            <a:off x="6877080" y="2565360"/>
            <a:ext cx="20484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5"/>
          <p:cNvSpPr/>
          <p:nvPr/>
        </p:nvSpPr>
        <p:spPr>
          <a:xfrm>
            <a:off x="6948360" y="2565360"/>
            <a:ext cx="19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6"/>
          <p:cNvSpPr/>
          <p:nvPr/>
        </p:nvSpPr>
        <p:spPr>
          <a:xfrm>
            <a:off x="6607080" y="2313000"/>
            <a:ext cx="204840" cy="177840"/>
          </a:xfrm>
          <a:prstGeom prst="ellipse">
            <a:avLst/>
          </a:prstGeom>
          <a:solidFill>
            <a:srgbClr val="7ea7d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6678720" y="2322360"/>
            <a:ext cx="19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8"/>
          <p:cNvSpPr/>
          <p:nvPr/>
        </p:nvSpPr>
        <p:spPr>
          <a:xfrm>
            <a:off x="5826240" y="2127240"/>
            <a:ext cx="198360" cy="17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9"/>
          <p:cNvSpPr/>
          <p:nvPr/>
        </p:nvSpPr>
        <p:spPr>
          <a:xfrm>
            <a:off x="5884920" y="2139840"/>
            <a:ext cx="19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0"/>
          <p:cNvGrpSpPr/>
          <p:nvPr/>
        </p:nvGrpSpPr>
        <p:grpSpPr>
          <a:xfrm>
            <a:off x="6397560" y="2349360"/>
            <a:ext cx="255600" cy="185760"/>
            <a:chOff x="6397560" y="2349360"/>
            <a:chExt cx="255600" cy="185760"/>
          </a:xfrm>
        </p:grpSpPr>
        <p:sp>
          <p:nvSpPr>
            <p:cNvPr id="189" name="Oval 51"/>
            <p:cNvSpPr/>
            <p:nvPr/>
          </p:nvSpPr>
          <p:spPr>
            <a:xfrm>
              <a:off x="6397560" y="2352600"/>
              <a:ext cx="201600" cy="182520"/>
            </a:xfrm>
            <a:prstGeom prst="ellipse">
              <a:avLst/>
            </a:prstGeom>
            <a:solidFill>
              <a:srgbClr val="7ea7d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2"/>
            <p:cNvSpPr/>
            <p:nvPr/>
          </p:nvSpPr>
          <p:spPr>
            <a:xfrm>
              <a:off x="6462720" y="2349360"/>
              <a:ext cx="1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53"/>
          <p:cNvSpPr/>
          <p:nvPr/>
        </p:nvSpPr>
        <p:spPr>
          <a:xfrm>
            <a:off x="7021440" y="1463760"/>
            <a:ext cx="21456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7089840" y="1479600"/>
            <a:ext cx="18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5"/>
          <p:cNvSpPr/>
          <p:nvPr/>
        </p:nvSpPr>
        <p:spPr>
          <a:xfrm>
            <a:off x="7272360" y="1463760"/>
            <a:ext cx="214200" cy="182520"/>
          </a:xfrm>
          <a:prstGeom prst="ellipse">
            <a:avLst/>
          </a:prstGeom>
          <a:solidFill>
            <a:srgbClr val="7ea7d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6"/>
          <p:cNvSpPr/>
          <p:nvPr/>
        </p:nvSpPr>
        <p:spPr>
          <a:xfrm>
            <a:off x="7338960" y="1479600"/>
            <a:ext cx="19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7"/>
          <p:cNvSpPr/>
          <p:nvPr/>
        </p:nvSpPr>
        <p:spPr>
          <a:xfrm>
            <a:off x="7513560" y="1463760"/>
            <a:ext cx="216000" cy="182520"/>
          </a:xfrm>
          <a:prstGeom prst="ellipse">
            <a:avLst/>
          </a:prstGeom>
          <a:solidFill>
            <a:srgbClr val="7ea7d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8"/>
          <p:cNvSpPr/>
          <p:nvPr/>
        </p:nvSpPr>
        <p:spPr>
          <a:xfrm>
            <a:off x="7585200" y="1476360"/>
            <a:ext cx="18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9"/>
          <p:cNvSpPr/>
          <p:nvPr/>
        </p:nvSpPr>
        <p:spPr>
          <a:xfrm>
            <a:off x="7242120" y="901800"/>
            <a:ext cx="203400" cy="176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0"/>
          <p:cNvSpPr/>
          <p:nvPr/>
        </p:nvSpPr>
        <p:spPr>
          <a:xfrm>
            <a:off x="7304040" y="911160"/>
            <a:ext cx="19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1"/>
          <p:cNvSpPr/>
          <p:nvPr/>
        </p:nvSpPr>
        <p:spPr>
          <a:xfrm>
            <a:off x="5367240" y="1252440"/>
            <a:ext cx="20484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2"/>
          <p:cNvSpPr/>
          <p:nvPr/>
        </p:nvSpPr>
        <p:spPr>
          <a:xfrm>
            <a:off x="5432400" y="1262160"/>
            <a:ext cx="19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3"/>
          <p:cNvSpPr/>
          <p:nvPr/>
        </p:nvSpPr>
        <p:spPr>
          <a:xfrm>
            <a:off x="7740720" y="2060640"/>
            <a:ext cx="13176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4"/>
          <p:cNvSpPr/>
          <p:nvPr/>
        </p:nvSpPr>
        <p:spPr>
          <a:xfrm>
            <a:off x="7812000" y="1989000"/>
            <a:ext cx="1596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WE Polska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ther RWE subsidia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perational si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5"/>
          <p:cNvSpPr/>
          <p:nvPr/>
        </p:nvSpPr>
        <p:spPr>
          <a:xfrm>
            <a:off x="7740720" y="2349360"/>
            <a:ext cx="133200" cy="125640"/>
          </a:xfrm>
          <a:prstGeom prst="ellipse">
            <a:avLst/>
          </a:prstGeom>
          <a:solidFill>
            <a:srgbClr val="7ea7d4"/>
          </a:solidFill>
          <a:ln w="9360">
            <a:solidFill>
              <a:srgbClr val="7ea7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6"/>
          <p:cNvSpPr/>
          <p:nvPr/>
        </p:nvSpPr>
        <p:spPr>
          <a:xfrm>
            <a:off x="7740720" y="2637000"/>
            <a:ext cx="133200" cy="12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7"/>
          <p:cNvSpPr/>
          <p:nvPr/>
        </p:nvSpPr>
        <p:spPr>
          <a:xfrm>
            <a:off x="1363680" y="4365720"/>
            <a:ext cx="4698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1363680" y="5445000"/>
            <a:ext cx="4698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9"/>
          <p:cNvSpPr/>
          <p:nvPr/>
        </p:nvSpPr>
        <p:spPr>
          <a:xfrm>
            <a:off x="1352520" y="4286160"/>
            <a:ext cx="43344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8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ol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0"/>
          <p:cNvSpPr/>
          <p:nvPr/>
        </p:nvSpPr>
        <p:spPr>
          <a:xfrm>
            <a:off x="1352520" y="5373720"/>
            <a:ext cx="42084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8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ol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1"/>
          <p:cNvSpPr/>
          <p:nvPr/>
        </p:nvSpPr>
        <p:spPr>
          <a:xfrm>
            <a:off x="957240" y="6165720"/>
            <a:ext cx="266544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2"/>
          <p:cNvSpPr/>
          <p:nvPr/>
        </p:nvSpPr>
        <p:spPr>
          <a:xfrm>
            <a:off x="5816520" y="259704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Katow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3"/>
          <p:cNvSpPr/>
          <p:nvPr/>
        </p:nvSpPr>
        <p:spPr>
          <a:xfrm>
            <a:off x="560520" y="4292640"/>
            <a:ext cx="266364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4"/>
          <p:cNvSpPr/>
          <p:nvPr/>
        </p:nvSpPr>
        <p:spPr>
          <a:xfrm>
            <a:off x="6753240" y="1449360"/>
            <a:ext cx="504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345440" cy="74592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he RWE Polska in fiscal 20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95280" y="4221000"/>
            <a:ext cx="3097080" cy="1944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68360" y="1268280"/>
            <a:ext cx="725652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erly state-owne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(STO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privatized in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WE Polska and RWE Stoen Operator separate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 2007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e to unbundling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 of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O and main sales operations focused on 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s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00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s 2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ITA EUR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68,8 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Sales revenue EUR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63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 sales to final customers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 5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Wh, ca. 6% Polish market sh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600 employees at RWE Polska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c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employees at RWE Stoen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042920" y="6093000"/>
            <a:ext cx="6400800" cy="26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All rights are reserved: further usage of this model not allowed or in agreement with R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RWE – Model of Competence (MoC) *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based on 4 pillars beside the functional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kills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971640" y="1413000"/>
            <a:ext cx="2879640" cy="16556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EADING BUIS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 Commercial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rn Strategy int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5292720" y="1413000"/>
            <a:ext cx="2879640" cy="16556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ADING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ag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Effectiv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971640" y="3933720"/>
            <a:ext cx="2879640" cy="1656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EADING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no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Change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5292720" y="3933720"/>
            <a:ext cx="2879640" cy="1656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EADING 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Personal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Passion and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rn and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ADING BUI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monstrate Commercial Jud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externally to identify market trends, competitor activity and opportunities for the bus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current and future customer requirements and acts to res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a long term view when evaluating courses of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s the costs and benefits of commercial opportun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the RWE value chain and acts in line with the wider Grou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 Strategy into Resul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decisions, commits to action and „just does it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he courage to lead even in times of uncertain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action with a realistic view of the level of ris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es strategy into specific objectives for own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es and utilises 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fficiently to achieve objec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s on objectives and meets targ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ADING PEOPL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gage Peo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effective and trusting working relationships with 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s persuasive and convincing arguments, influencing key stakehol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es and communicates in a way that inspires and motivates 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s to and shows empathy for others, adapting own behaviour according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and respects others, including those with different perspectives and backgr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effective Te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s an overview of team performance, tracking progress to ensure the delivery of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s information and promotes cooperation within the te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good use of the team‘s diversity and strengths to achieve team suc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s to involve team members in making decisions and creating pla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lop Peo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feedback on behaviour and performance, highlighting strengths and development ne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ches others to develop new skills and improve perform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responsibilities to others, giving them the space to take the l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others in trying things for the first time, accepting that mistakes provide good lear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es people to the right positions, developing their pot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A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no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s outside the own functional area and is open to new ideas and initia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s creatively to find new ways generating value for the bus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flexibility in responding to and taking advantage of changing circumsta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others to come up with new ideas and approac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ters an environment in which innovation and creativity is supported and promo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 Change happ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s change objectives, benefits and process early and repeat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people in change to build ownership and eng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s a sense of urgency to act, maintaining momentum until change objectives are achie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s and implements change to improve working practices and approac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1:03:33Z</dcterms:created>
  <dc:creator>RWE AG</dc:creator>
  <dc:description>Template: 2008-04-25</dc:description>
  <dc:language>en-US</dc:language>
  <cp:lastModifiedBy>reusch</cp:lastModifiedBy>
  <dcterms:modified xsi:type="dcterms:W3CDTF">2011-06-22T07:26:00Z</dcterms:modified>
  <cp:revision>196</cp:revision>
  <dc:subject>Subject</dc:subject>
  <dc:title>Title</dc:title>
</cp:coreProperties>
</file>